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514-9CDB-4E94-A378-928314C5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9B5-BB7A-4994-86B4-DE779A5C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FF48-BF7E-4924-B6D6-1663C53A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E74-BDF0-4CF8-8F22-F62CF5DF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6F8D-0854-4BFD-B156-390A5250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4962-1F0D-4B2B-B65A-C0C4159F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7C4B-540F-45E5-BBC3-2C63DB08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CDD2-AC53-4FC3-B047-AF052852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91B1-08F9-44BE-AA81-AA77B8E1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3565-EA80-4939-B0EB-E68BEA8D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D404-6557-4104-8FE3-F924A956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7D4-E060-4CDB-A436-E4D44CF9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251C-3DB3-4FFA-8E27-39AC69FC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8414-C6B7-4879-8F2D-16B0F27B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8E01-25D1-4047-8AF2-A791CCD3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F4CB-AAD2-4120-A051-09660473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EFB6-E3B5-4362-B0CE-54B96A311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253-E201-4E04-BEE2-1542151E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A05-29BB-414C-87A0-961318EE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4E2C-E1F1-45D3-BDA7-BFABC81D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800-0D38-47B2-B629-E3D3F326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B8F-4364-4C1B-A170-D850C2FD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462-AD76-4B77-8C6A-80839209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F77A-44E6-4DAD-9C39-3C9BB3D5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14D8-BFE1-4096-AA82-6CFA2658B3A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1462-B822-4600-9AE4-89AC605C2A7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3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elen bought an aquarium for her bedroom.  She paid $17 for the tank, $8 for the heater, $11 for the plants and $3 for the gravel.  She also bought 4 goldfish that cost 23 cents each.  After paying for everything, she had 98 cents left to buy fish food.  The fish food was 59 cents including tax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33520" y="6854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fore tax, how much did Helen pay for the tank, heater, plants and gravel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uch more did the tank cost than the heater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was the total cost of the 4 goldfish, before tax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much did Helen have left after she paid for the fish food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Helen had only $25 to spend on the aquarium before tax, list the combinations of items that she could get, not including the fish or the fish foo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21:41:39Z</dcterms:created>
  <dc:creator>127partidak</dc:creator>
  <dc:description/>
  <dc:language>en-US</dc:language>
  <cp:lastModifiedBy>127partidak</cp:lastModifiedBy>
  <dcterms:modified xsi:type="dcterms:W3CDTF">2012-01-13T21:53:05Z</dcterms:modified>
  <cp:revision>2</cp:revision>
  <dc:subject/>
  <dc:title>Information</dc:title>
</cp:coreProperties>
</file>